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792-34D1-42F6-93ED-16E8B770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5B5C-D9B7-4CEE-B09F-C9E346EF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AD5-5F99-4D87-A951-F005D691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F3D-A34E-4A09-AEB7-BD8937CD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CA64-A7AC-438A-BBEF-0C3AD056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4291-17E1-4EC9-B16C-133C6ABE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CAA-B75E-414E-B9A8-E0244909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C7F3-98CD-47A3-9654-250CEA21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7C1-08F9-4B69-AA21-95A13D0F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3492-F268-42DC-B0F9-559522B8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41E-87D3-4AAD-8CD0-65B11CE6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E38-74D6-452E-BF38-3B474974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6D1D-9A33-4FC4-9B2F-D73C717BE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6:15:14Z</dcterms:created>
  <dc:creator>Grupo Editorial</dc:creator>
  <dc:description/>
  <dc:language>en-US</dc:language>
  <cp:lastModifiedBy>Grupo Editorial</cp:lastModifiedBy>
  <dcterms:modified xsi:type="dcterms:W3CDTF">2001-11-21T16:28:54Z</dcterms:modified>
  <cp:revision>1</cp:revision>
  <dc:subject/>
  <dc:title>Sin título de diapositiva</dc:title>
</cp:coreProperties>
</file>